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41C1-A2D1-4479-A960-F5AF797645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58C-8986-4C0E-A181-6AF3659A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1B8-8699-4016-BB3D-9DF39F77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C50-7B32-47A9-9D69-9E27C335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F12-8081-4380-A8DF-938EED30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900-27E2-4F59-9478-65CF42DD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4E6-2720-4A80-984F-A2312564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7F8-0D5A-4D49-82E4-62E257E3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015-817F-44EC-A822-2A5023E7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D60-F9C4-45F2-948A-908671F3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F54-AD0C-4194-8F82-953B2809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AE0-6F4E-4BE2-80B9-86636ED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91C-AF3E-4040-9263-A83985A5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EC6F-2F90-41D9-A062-01DA27CCB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lip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20a"/>
          <p:cNvPicPr/>
          <p:nvPr/>
        </p:nvPicPr>
        <p:blipFill>
          <a:blip r:embed="rId1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2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838080" y="380880"/>
            <a:ext cx="78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 from a planet to the 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20c"/>
          <p:cNvPicPr/>
          <p:nvPr/>
        </p:nvPicPr>
        <p:blipFill>
          <a:blip r:embed="rId1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447920" y="32767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ижний колонтитул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895560" y="91440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76520" y="6248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8-03-22T10:40:00Z</dcterms:modified>
  <cp:revision>297</cp:revision>
  <dc:subject/>
  <dc:title>The Roots of Astronomy</dc:title>
</cp:coreProperties>
</file>